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5860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简易方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1403280" y="2060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解方程 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5.png"/>
          <p:cNvPicPr/>
          <p:nvPr/>
        </p:nvPicPr>
        <p:blipFill>
          <a:blip r:embed="rId2"/>
          <a:stretch/>
        </p:blipFill>
        <p:spPr>
          <a:xfrm>
            <a:off x="826920" y="981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1" name="矩形 498693"/>
          <p:cNvSpPr/>
          <p:nvPr/>
        </p:nvSpPr>
        <p:spPr>
          <a:xfrm>
            <a:off x="1887840" y="5084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98694"/>
          <p:cNvSpPr/>
          <p:nvPr/>
        </p:nvSpPr>
        <p:spPr>
          <a:xfrm>
            <a:off x="3616560" y="4797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934920" y="5300640"/>
            <a:ext cx="363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说说你是怎么想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187280" y="2637000"/>
            <a:ext cx="7848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已知    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16         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12 </a:t>
            </a:r>
            <a:br>
              <a:rPr sz="3000"/>
            </a:br>
            <a:br>
              <a:rPr sz="3000"/>
            </a:br>
            <a:r>
              <a:rPr b="0" lang="zh-CN" sz="3000" spc="-1" strike="noStrike">
                <a:solidFill>
                  <a:srgbClr val="1c1c1c"/>
                </a:solidFill>
                <a:latin typeface="Arial"/>
                <a:ea typeface="宋体"/>
              </a:rPr>
              <a:t>那么     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zh-CN" sz="3000" spc="-1" strike="noStrike">
                <a:solidFill>
                  <a:srgbClr val="1c1c1c"/>
                </a:solidFill>
                <a:latin typeface="宋体"/>
                <a:ea typeface="宋体"/>
              </a:rPr>
              <a:t>（   ）    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zh-CN" sz="3000" spc="-1" strike="noStrike">
                <a:solidFill>
                  <a:srgbClr val="1c1c1c"/>
                </a:solidFill>
                <a:latin typeface="宋体"/>
                <a:ea typeface="宋体"/>
              </a:rPr>
              <a:t>（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179800" y="2752560"/>
            <a:ext cx="4248000" cy="1195560"/>
            <a:chOff x="2179800" y="2752560"/>
            <a:chExt cx="4248000" cy="1195560"/>
          </a:xfrm>
        </p:grpSpPr>
        <p:sp>
          <p:nvSpPr>
            <p:cNvPr id="141" name="Oval 7"/>
            <p:cNvSpPr/>
            <p:nvPr/>
          </p:nvSpPr>
          <p:spPr>
            <a:xfrm>
              <a:off x="2179800" y="3660480"/>
              <a:ext cx="289080" cy="287640"/>
            </a:xfrm>
            <a:prstGeom prst="ellips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2179800" y="2752560"/>
              <a:ext cx="1800360" cy="322200"/>
              <a:chOff x="2179800" y="2752560"/>
              <a:chExt cx="1800360" cy="322200"/>
            </a:xfrm>
          </p:grpSpPr>
          <p:sp>
            <p:nvSpPr>
              <p:cNvPr id="143" name="Oval 9"/>
              <p:cNvSpPr/>
              <p:nvPr/>
            </p:nvSpPr>
            <p:spPr>
              <a:xfrm>
                <a:off x="2179800" y="2787480"/>
                <a:ext cx="289080" cy="2872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0"/>
              <p:cNvSpPr/>
              <p:nvPr/>
            </p:nvSpPr>
            <p:spPr>
              <a:xfrm>
                <a:off x="2971800" y="2787480"/>
                <a:ext cx="289080" cy="2872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AutoShape 11"/>
              <p:cNvSpPr/>
              <p:nvPr/>
            </p:nvSpPr>
            <p:spPr>
              <a:xfrm>
                <a:off x="3691080" y="2752560"/>
                <a:ext cx="289080" cy="287280"/>
              </a:xfrm>
              <a:prstGeom prst="triangle">
                <a:avLst>
                  <a:gd name="adj" fmla="val 50000"/>
                </a:avLst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Oval 12"/>
            <p:cNvSpPr/>
            <p:nvPr/>
          </p:nvSpPr>
          <p:spPr>
            <a:xfrm>
              <a:off x="5419800" y="2796840"/>
              <a:ext cx="289080" cy="287640"/>
            </a:xfrm>
            <a:prstGeom prst="ellips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13"/>
            <p:cNvSpPr/>
            <p:nvPr/>
          </p:nvSpPr>
          <p:spPr>
            <a:xfrm>
              <a:off x="6139080" y="2761920"/>
              <a:ext cx="288720" cy="28764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14"/>
            <p:cNvSpPr/>
            <p:nvPr/>
          </p:nvSpPr>
          <p:spPr>
            <a:xfrm>
              <a:off x="4770720" y="3660480"/>
              <a:ext cx="288720" cy="28764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6"/>
          <p:cNvSpPr/>
          <p:nvPr/>
        </p:nvSpPr>
        <p:spPr>
          <a:xfrm>
            <a:off x="3452760" y="3429000"/>
            <a:ext cx="4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5919840" y="3451320"/>
            <a:ext cx="5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26920" y="1174680"/>
            <a:ext cx="6409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填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508945"/>
          <p:cNvSpPr/>
          <p:nvPr/>
        </p:nvSpPr>
        <p:spPr>
          <a:xfrm>
            <a:off x="1887840" y="5084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508946"/>
          <p:cNvSpPr/>
          <p:nvPr/>
        </p:nvSpPr>
        <p:spPr>
          <a:xfrm>
            <a:off x="2103480" y="5300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95280" y="2637000"/>
            <a:ext cx="8039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五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755640" y="5732640"/>
            <a:ext cx="79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在解方程过程中你分几大步进行？每步的目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5148360" y="458136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916360" y="2211480"/>
            <a:ext cx="374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4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1042920" y="1557360"/>
            <a:ext cx="172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解方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476360" y="2924280"/>
            <a:ext cx="8199360" cy="2221920"/>
            <a:chOff x="1476360" y="2924280"/>
            <a:chExt cx="8199360" cy="2221920"/>
          </a:xfrm>
        </p:grpSpPr>
        <p:sp>
          <p:nvSpPr>
            <p:cNvPr id="49" name="Rectangle 2"/>
            <p:cNvSpPr/>
            <p:nvPr/>
          </p:nvSpPr>
          <p:spPr>
            <a:xfrm>
              <a:off x="1744560" y="3476520"/>
              <a:ext cx="46800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4.3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2"/>
            <p:cNvSpPr/>
            <p:nvPr/>
          </p:nvSpPr>
          <p:spPr>
            <a:xfrm>
              <a:off x="1476360" y="2924280"/>
              <a:ext cx="5904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解：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÷3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×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.44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×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960640" y="4028760"/>
              <a:ext cx="6715080" cy="1117440"/>
              <a:chOff x="2960640" y="4028760"/>
              <a:chExt cx="6715080" cy="1117440"/>
            </a:xfrm>
          </p:grpSpPr>
          <p:sp>
            <p:nvSpPr>
              <p:cNvPr id="52" name="Rectangle 2"/>
              <p:cNvSpPr/>
              <p:nvPr/>
            </p:nvSpPr>
            <p:spPr>
              <a:xfrm>
                <a:off x="2960640" y="4028760"/>
                <a:ext cx="59040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÷4</a:t>
                </a: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4.32</a:t>
                </a:r>
                <a:r>
                  <a:rPr b="0" lang="en-US" sz="3000" spc="-1" strike="noStrike">
                    <a:solidFill>
                      <a:srgbClr val="1c1c1c"/>
                    </a:solidFill>
                    <a:latin typeface="Arial"/>
                  </a:rPr>
                  <a:t>÷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2"/>
              <p:cNvSpPr/>
              <p:nvPr/>
            </p:nvSpPr>
            <p:spPr>
              <a:xfrm>
                <a:off x="3771720" y="4570200"/>
                <a:ext cx="5904000" cy="57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.0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矩形 500749"/>
          <p:cNvSpPr/>
          <p:nvPr/>
        </p:nvSpPr>
        <p:spPr>
          <a:xfrm>
            <a:off x="1887840" y="5084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00750"/>
          <p:cNvSpPr/>
          <p:nvPr/>
        </p:nvSpPr>
        <p:spPr>
          <a:xfrm>
            <a:off x="2103480" y="5300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00751"/>
          <p:cNvSpPr/>
          <p:nvPr/>
        </p:nvSpPr>
        <p:spPr>
          <a:xfrm>
            <a:off x="2319480" y="5516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问题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自主探究，解决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2195640" y="2637000"/>
            <a:ext cx="8135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解方程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16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）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8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1442880" y="5340240"/>
            <a:ext cx="748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能运用等式的性质解方程吗？请你写一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84360" y="472428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观察这个方程有几步运算？可以把什么看做一个整体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还能想到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7"/>
          <p:cNvSpPr/>
          <p:nvPr/>
        </p:nvSpPr>
        <p:spPr>
          <a:xfrm>
            <a:off x="2052720" y="3500280"/>
            <a:ext cx="3598920" cy="576360"/>
          </a:xfrm>
          <a:prstGeom prst="wedgeRoundRectCallout">
            <a:avLst>
              <a:gd name="adj1" fmla="val -59703"/>
              <a:gd name="adj2" fmla="val 3594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你自己把这个方程解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女天使副本"/>
          <p:cNvPicPr/>
          <p:nvPr/>
        </p:nvPicPr>
        <p:blipFill>
          <a:blip r:embed="rId2"/>
          <a:stretch/>
        </p:blipFill>
        <p:spPr>
          <a:xfrm>
            <a:off x="384120" y="3068640"/>
            <a:ext cx="1523880" cy="1279440"/>
          </a:xfrm>
          <a:prstGeom prst="rect">
            <a:avLst/>
          </a:prstGeom>
          <a:ln w="0">
            <a:noFill/>
          </a:ln>
        </p:spPr>
      </p:pic>
      <p:sp>
        <p:nvSpPr>
          <p:cNvPr id="64" name="矩形 501769"/>
          <p:cNvSpPr/>
          <p:nvPr/>
        </p:nvSpPr>
        <p:spPr>
          <a:xfrm>
            <a:off x="1887840" y="5084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问题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55640" y="5661000"/>
            <a:ext cx="78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你能说说他们的想法吗？他们分别把什么看做一个整体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分几大步解决？运用了什么运算定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260360" y="1844640"/>
            <a:ext cx="8136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解方程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16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）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8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汇报交流，感悟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684360" y="2637000"/>
            <a:ext cx="3743280" cy="2879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2416320" y="3645000"/>
            <a:ext cx="19080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28720" y="3284640"/>
            <a:ext cx="32400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解：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（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16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8÷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967120" y="4513320"/>
            <a:ext cx="10000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874880" y="4057560"/>
            <a:ext cx="25956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16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1114560" y="270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5"/>
          <p:cNvSpPr/>
          <p:nvPr/>
        </p:nvSpPr>
        <p:spPr>
          <a:xfrm>
            <a:off x="4896000" y="2637000"/>
            <a:ext cx="3744720" cy="28796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6767640" y="4024440"/>
            <a:ext cx="19080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594400" y="3159000"/>
            <a:ext cx="32400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解：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2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929280" y="4749840"/>
            <a:ext cx="10004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688000" y="3646440"/>
            <a:ext cx="34560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32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6380280" y="442764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5256360" y="2708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问题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755640" y="5805360"/>
            <a:ext cx="748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是不是方程的解？请你检验一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反思检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2771640" y="2133720"/>
            <a:ext cx="324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16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）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898560" y="2854440"/>
            <a:ext cx="5905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方程左边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16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3000"/>
            </a:br>
            <a:r>
              <a:rPr b="0" lang="en-US" sz="2500" spc="-1" strike="noStrike">
                <a:solidFill>
                  <a:srgbClr val="1c1c1c"/>
                </a:solidFill>
                <a:latin typeface="Arial"/>
                <a:ea typeface="宋体"/>
              </a:rPr>
              <a:t>    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2×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16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30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2×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4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方程右边</a:t>
            </a:r>
            <a:br>
              <a:rPr sz="2500"/>
            </a:b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所以，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是方程的解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0" descr="男天使副本"/>
          <p:cNvPicPr/>
          <p:nvPr/>
        </p:nvPicPr>
        <p:blipFill>
          <a:blip r:embed="rId2"/>
          <a:stretch/>
        </p:blipFill>
        <p:spPr>
          <a:xfrm>
            <a:off x="7308720" y="1916280"/>
            <a:ext cx="1524240" cy="141444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27"/>
          <p:cNvSpPr/>
          <p:nvPr/>
        </p:nvSpPr>
        <p:spPr>
          <a:xfrm>
            <a:off x="5651640" y="1700280"/>
            <a:ext cx="1942920" cy="576360"/>
          </a:xfrm>
          <a:prstGeom prst="wedgeRoundRectCallout">
            <a:avLst>
              <a:gd name="adj1" fmla="val 38972"/>
              <a:gd name="adj2" fmla="val 10096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别忘了检验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03816"/>
          <p:cNvSpPr/>
          <p:nvPr/>
        </p:nvSpPr>
        <p:spPr>
          <a:xfrm>
            <a:off x="3325320" y="4172040"/>
            <a:ext cx="71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973080" y="2421000"/>
            <a:ext cx="734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500"/>
            </a:b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（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5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12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）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×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8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24 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（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100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）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755640" y="4508640"/>
            <a:ext cx="7631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观察这个方程有几步运算？可以先把什么看做一个整体？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530360" y="5084640"/>
            <a:ext cx="748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你独立思考，并在纸上完成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04837"/>
          <p:cNvSpPr/>
          <p:nvPr/>
        </p:nvSpPr>
        <p:spPr>
          <a:xfrm>
            <a:off x="1456200" y="1413000"/>
            <a:ext cx="87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解方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04838"/>
          <p:cNvSpPr/>
          <p:nvPr/>
        </p:nvSpPr>
        <p:spPr>
          <a:xfrm>
            <a:off x="1887840" y="5084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755640" y="5445000"/>
            <a:ext cx="78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能说说他们的想法吗？分几大步解决？分别把什么看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一个整体？依据是什么？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08000" y="2004840"/>
            <a:ext cx="5687280" cy="3240000"/>
            <a:chOff x="108000" y="2004840"/>
            <a:chExt cx="5687280" cy="3240000"/>
          </a:xfrm>
        </p:grpSpPr>
        <p:sp>
          <p:nvSpPr>
            <p:cNvPr id="99" name="AutoShape 8"/>
            <p:cNvSpPr/>
            <p:nvPr/>
          </p:nvSpPr>
          <p:spPr>
            <a:xfrm>
              <a:off x="108000" y="2004840"/>
              <a:ext cx="4343040" cy="32400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50640" y="2226960"/>
              <a:ext cx="5444640" cy="2903400"/>
              <a:chOff x="350640" y="2226960"/>
              <a:chExt cx="5444640" cy="2903400"/>
            </a:xfrm>
          </p:grpSpPr>
          <p:sp>
            <p:nvSpPr>
              <p:cNvPr id="101" name="Rectangle 2"/>
              <p:cNvSpPr/>
              <p:nvPr/>
            </p:nvSpPr>
            <p:spPr>
              <a:xfrm>
                <a:off x="2480400" y="3041280"/>
                <a:ext cx="2131920" cy="59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r>
                  <a:rPr b="0" i="1" lang="en-US" sz="1800" spc="-1" strike="noStrike">
                    <a:solidFill>
                      <a:srgbClr val="1c1c1c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－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12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2"/>
              <p:cNvSpPr/>
              <p:nvPr/>
            </p:nvSpPr>
            <p:spPr>
              <a:xfrm>
                <a:off x="350640" y="2609640"/>
                <a:ext cx="4343040" cy="59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解： 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（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5</a:t>
                </a:r>
                <a:r>
                  <a:rPr b="0" i="1" lang="en-US" sz="1800" spc="-1" strike="noStrike">
                    <a:solidFill>
                      <a:srgbClr val="1c1c1c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－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12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）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×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8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÷8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24÷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"/>
              <p:cNvSpPr/>
              <p:nvPr/>
            </p:nvSpPr>
            <p:spPr>
              <a:xfrm>
                <a:off x="3083400" y="3833640"/>
                <a:ext cx="1117440" cy="59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5</a:t>
                </a:r>
                <a:r>
                  <a:rPr b="0" i="1" lang="en-US" sz="1800" spc="-1" strike="noStrike">
                    <a:solidFill>
                      <a:srgbClr val="1c1c1c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"/>
              <p:cNvSpPr/>
              <p:nvPr/>
            </p:nvSpPr>
            <p:spPr>
              <a:xfrm>
                <a:off x="1877760" y="3474720"/>
                <a:ext cx="3864600" cy="59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r>
                  <a:rPr b="0" i="1" lang="en-US" sz="1800" spc="-1" strike="noStrike">
                    <a:solidFill>
                      <a:srgbClr val="1c1c1c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－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12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＋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12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3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＋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4"/>
              <p:cNvSpPr/>
              <p:nvPr/>
            </p:nvSpPr>
            <p:spPr>
              <a:xfrm>
                <a:off x="1425240" y="2226960"/>
                <a:ext cx="410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（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5</a:t>
                </a:r>
                <a:r>
                  <a:rPr b="0" i="1" lang="en-US" sz="1800" spc="-1" strike="noStrike">
                    <a:solidFill>
                      <a:srgbClr val="1c1c1c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－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12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）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×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8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"/>
              <p:cNvSpPr/>
              <p:nvPr/>
            </p:nvSpPr>
            <p:spPr>
              <a:xfrm>
                <a:off x="2601000" y="4194000"/>
                <a:ext cx="2575080" cy="59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r>
                  <a:rPr b="0" i="1" lang="en-US" sz="1800" spc="-1" strike="noStrike">
                    <a:solidFill>
                      <a:srgbClr val="1c1c1c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÷5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15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÷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"/>
              <p:cNvSpPr/>
              <p:nvPr/>
            </p:nvSpPr>
            <p:spPr>
              <a:xfrm>
                <a:off x="3220200" y="4535280"/>
                <a:ext cx="2575080" cy="59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1c1c1c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AutoShape 18"/>
          <p:cNvSpPr/>
          <p:nvPr/>
        </p:nvSpPr>
        <p:spPr>
          <a:xfrm>
            <a:off x="4529160" y="1989000"/>
            <a:ext cx="4427640" cy="3240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867280" y="2946240"/>
            <a:ext cx="34560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100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i="1" lang="en-US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x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i="1" lang="en-US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16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i="1" lang="en-US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4500720" y="2604960"/>
            <a:ext cx="641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解： </a:t>
            </a:r>
            <a:r>
              <a:rPr b="0" lang="zh-CN" sz="1800" spc="-1" strike="noStrike">
                <a:solidFill>
                  <a:srgbClr val="1c1c1c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100</a:t>
            </a:r>
            <a:r>
              <a:rPr b="0" lang="zh-CN" sz="1800" spc="-1" strike="noStrike">
                <a:solidFill>
                  <a:srgbClr val="1c1c1c"/>
                </a:solidFill>
                <a:latin typeface="宋体"/>
                <a:ea typeface="宋体"/>
              </a:rPr>
              <a:t>－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i="1" lang="en-US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1c1c1c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7254720" y="4535640"/>
            <a:ext cx="9892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5460840" y="2251080"/>
            <a:ext cx="38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100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i="1" lang="en-US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1c1c1c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6545160" y="3560760"/>
            <a:ext cx="18874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16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i="1" lang="en-US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6008760" y="3884760"/>
            <a:ext cx="43099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16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x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16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5"/>
          <p:cNvSpPr/>
          <p:nvPr/>
        </p:nvSpPr>
        <p:spPr>
          <a:xfrm>
            <a:off x="6921360" y="3332160"/>
            <a:ext cx="26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100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16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i="1" lang="en-US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7093080" y="4194000"/>
            <a:ext cx="1295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i="1" lang="en-US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1503360" y="5734080"/>
            <a:ext cx="78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你检验一下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755640" y="6087960"/>
            <a:ext cx="78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结：在解两步、三步方程时，你有什么感悟？和大家分享一下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505880"/>
          <p:cNvSpPr/>
          <p:nvPr/>
        </p:nvSpPr>
        <p:spPr>
          <a:xfrm>
            <a:off x="826920" y="1413000"/>
            <a:ext cx="29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解方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06882"/>
          <p:cNvSpPr/>
          <p:nvPr/>
        </p:nvSpPr>
        <p:spPr>
          <a:xfrm>
            <a:off x="826920" y="1413000"/>
            <a:ext cx="29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解方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76120" y="2114640"/>
            <a:ext cx="4146480" cy="28796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66ff"/>
                </a:solidFill>
                <a:latin typeface="Arial"/>
                <a:ea typeface="宋体"/>
              </a:rPr>
              <a:t>检验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程左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5</a:t>
            </a:r>
            <a:r>
              <a:rPr b="0" i="1" lang="en-US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5×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3×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程右边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所以，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是方程的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668840" y="2133720"/>
            <a:ext cx="4427640" cy="28796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66ff"/>
                </a:solidFill>
                <a:latin typeface="Arial"/>
                <a:ea typeface="宋体"/>
              </a:rPr>
              <a:t>检验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程左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100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÷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3×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28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16÷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程右边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所以，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是方程的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826920" y="1174680"/>
            <a:ext cx="6409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看图列方程并求解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755640" y="5157720"/>
            <a:ext cx="79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能根据图意列出方程吗？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1547640" y="5516640"/>
            <a:ext cx="669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想一想，怎样解这个方程？把过程写下来。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1542960" y="5877000"/>
            <a:ext cx="66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方程的第一步是根据什么定律得到的？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547640" y="6237360"/>
            <a:ext cx="669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你检验一下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不是方程的解。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1990800" y="3429000"/>
            <a:ext cx="38894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619280" y="3867120"/>
            <a:ext cx="5257800" cy="1506600"/>
            <a:chOff x="1619280" y="3867120"/>
            <a:chExt cx="5257800" cy="1506600"/>
          </a:xfrm>
        </p:grpSpPr>
        <p:sp>
          <p:nvSpPr>
            <p:cNvPr id="132" name="Rectangle 2"/>
            <p:cNvSpPr/>
            <p:nvPr/>
          </p:nvSpPr>
          <p:spPr>
            <a:xfrm>
              <a:off x="1619280" y="3867120"/>
              <a:ext cx="38894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解： </a:t>
              </a: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"/>
            <p:cNvSpPr/>
            <p:nvPr/>
          </p:nvSpPr>
          <p:spPr>
            <a:xfrm>
              <a:off x="1908360" y="4282920"/>
              <a:ext cx="496872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÷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÷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"/>
            <p:cNvSpPr/>
            <p:nvPr/>
          </p:nvSpPr>
          <p:spPr>
            <a:xfrm>
              <a:off x="1835280" y="4621320"/>
              <a:ext cx="38894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2"/>
          <p:cNvSpPr/>
          <p:nvPr/>
        </p:nvSpPr>
        <p:spPr>
          <a:xfrm>
            <a:off x="4284720" y="2925720"/>
            <a:ext cx="5905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方程左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1c1c1c"/>
                </a:solidFill>
                <a:latin typeface="宋体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                           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方程右边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所以，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是方程的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507917" descr="14"/>
          <p:cNvPicPr/>
          <p:nvPr/>
        </p:nvPicPr>
        <p:blipFill>
          <a:blip r:embed="rId2"/>
          <a:stretch/>
        </p:blipFill>
        <p:spPr>
          <a:xfrm>
            <a:off x="1692360" y="2060640"/>
            <a:ext cx="34542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3T03:18:2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